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18.wmf" ContentType="image/x-wmf"/>
  <Override PartName="/ppt/media/image2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33.jpeg" ContentType="image/jpeg"/>
  <Override PartName="/ppt/media/image20.jpeg" ContentType="image/jpeg"/>
  <Override PartName="/ppt/media/image12.png" ContentType="image/png"/>
  <Override PartName="/ppt/media/image29.jpeg" ContentType="image/jpeg"/>
  <Override PartName="/ppt/media/image8.jpeg" ContentType="image/jpeg"/>
  <Override PartName="/ppt/media/image27.jpeg" ContentType="image/jpeg"/>
  <Override PartName="/ppt/media/image13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34.jpeg" ContentType="image/jpeg"/>
  <Override PartName="/ppt/media/image7.jpeg" ContentType="image/jpeg"/>
  <Override PartName="/ppt/media/image23.wmf" ContentType="image/x-wmf"/>
  <Override PartName="/ppt/media/image28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4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22.jpeg" ContentType="image/jpe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CE75-3931-4E1A-BCF9-DF371BDA1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change because they have an inborn urge to become better suited to their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could cause changes  in their own 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in bodies could be inher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opulations of organisms tend to overpop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individuals surv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differences occur in all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individuals with traits best suited to the environment survive (passing their traits on to their offspr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 as a whole becomes better “fit” for the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1E55-BD8E-4E9D-B306-F2D4D6A0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4386-0C0C-43E3-A9CD-84D7DD16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C03D-3EDE-4A60-8CD9-0CA681CE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D71A-A2A1-40DA-872C-BAF44752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C0F-C0B9-430B-88D3-8168EE48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0A93-9F8B-424D-95B2-96E0AA18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A4A1-EC8C-4893-8CAD-4ACACA1D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1F3C-CCF0-4DCA-B24A-A4DF2532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156-3F1C-4849-A08C-1D5FED47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746-1AEC-4FF9-BC04-B069607F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C3D-F35C-4419-8EA9-4A0CA55B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C651-F104-49A6-9ABB-FD3C97F5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207A-0ABC-4EC6-BE8D-C834071FD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1676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Fossil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fossils, scientists have put together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ologic time sc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arth histor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lative da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etermining the age of a rock by comparing it to other fossils in rock layers above or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solute da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using the rate of decay (half-life) of radioactive elements (Carbon-14, Uranium-235, etc.) to determine the age of a foss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92120" y="2128680"/>
            <a:ext cx="39686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Comparative Embr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the similarities and differences between embryos of different species at early stages of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re closely related species differences do not appear until very late stages of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ss closely related species are the earlier differences app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4610160" cy="1171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600440" cy="114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Comparativ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tomy = body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logous structures – are similar in structure &amp;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er the similarities the more closely related 2 specie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stigial organs – organs that have no known function (Ex: 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2620800"/>
            <a:ext cx="403848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Comparative Bio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makeup of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compounds used are DNA, ATP, Hemoglobin, and other prote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imilarities in chemical composition the more closely related 2 species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809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447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ypes of organisms present at a given period of the earth’s history have chan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rganisms are no longer living on earth (extinc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number of similarities between species increases the more closely related the two spec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3353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of the Fossil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Complete – fossils occur by chance when organisms do not decay (trapped in sediments, tar or tree sap), most organisms decay without forming a foss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– preservation varies – only part of body, footprints or impression may be fossi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 – determining the age of a fossil is not exact – ages are usually approximates and not absol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429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t Evidence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ppered Moth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fore the Industrial Revolution in England peppered moths were mostly light brown but a few were dark. During daylight moths rested on tree trunks which were light colored. During the I.R. soot from burning coal coated trees. How did the population of moths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of light colored moths in the population decre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of dark moths decreased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51280" y="1600200"/>
            <a:ext cx="3832200" cy="21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49920" y="3938760"/>
            <a:ext cx="36352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ntibiotic Resistant Bacteri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occurred in the last 8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use &amp; overuse of antibiotics have contributed to the probl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everal strains of bacteria that have become resist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include bacteria that cause gonorrhea, TB, and Staph inf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4038840" cy="4038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24280" y="5562720"/>
            <a:ext cx="4038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ph 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lesh-eating Bacte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sect Resistance to Pesticid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t genetics is present in a small number of insects in a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esticides are not rotated, the percentage of resistant insects in a population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77760" y="1600200"/>
            <a:ext cx="2997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eed Resistance to Herbicid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bicide are not known to directly cause the genetic change that allow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s present in the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same herbicides are used over several seasons, the resistant weeds survive and a greater percentage of the population are resis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67400" y="2557440"/>
            <a:ext cx="40003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Evol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nge in species of organisms over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ss by which modern organisms have descended from ancient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Theory of Ev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redited to Charles Darw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many scientists developed theories about evolution and contributed to the modern the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1148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s of Variation in Pop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netic Recomb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s that reproduce sexually inherit ½ of their genes from each parent, this increases variation in individuals (individual differenc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DNA or chromosomes create variation in individu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46483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Points to Rememb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occur i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pul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not in individual organis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ations only occur if individual differences can be passed on to offspring (inherit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 is any change in the relative frequency of a gene pool of a pop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ary changes only occur in response to changes in the environ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884240"/>
            <a:ext cx="40384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Ter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ary Fitn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cess organism has in passing it’s genes on to the next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y genetically controlled characteristic of an organism that increases it’s fit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oup of organisms that interbreed in nature and produce fertile offspr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48240" y="2033640"/>
            <a:ext cx="2438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eci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development of a new speci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s when 2 populations are isolated (separated) &amp; cannot interbre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populations undergo different changes based on the variations in each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long term separation the 2 populations  may develop reproductive barriers (reproductive isola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reproductive isolation has occurred the 2 populations are considered separate spe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3664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353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oductive barrier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breeding sea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ourtship rit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itat iso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pring not viable (do not liv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pring ster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tes will not fuse. Fertilized egg not viable (will not develo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942160" y="1600200"/>
            <a:ext cx="144936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943600" y="3938760"/>
            <a:ext cx="14461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graphic barriers isolate popul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ing ad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ifications to Darwin’s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486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changed Gene P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gene pools remain relatively unchanged for long periods of time. 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jor changes in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es is well adap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etition by invading spe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747880" y="3938760"/>
            <a:ext cx="3646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Dr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ndom change in the frequency of a gene in a gene p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when there is a random environmental event (eruption of a volcan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that not all characteristics contribute to fit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11080" y="1600200"/>
            <a:ext cx="3329280" cy="218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043600" y="1600200"/>
            <a:ext cx="32479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ctuated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periods in which there is not change in a population followed by short periods of rapid change. (Ex: peppered mo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till a controversial the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result from dramatic changes in clim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754360" y="3938760"/>
            <a:ext cx="36352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Scient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mar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8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points to hi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esire to chan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&amp; dis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heritance of acquired tra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76920" y="1066680"/>
            <a:ext cx="36576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304560"/>
            <a:ext cx="40384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rw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pro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ggle for Exis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vival of the Fitte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olution of a Popu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4720" y="1600200"/>
            <a:ext cx="394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marck &amp; Darwin Comp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mar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s of organisms all the same (no vari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occur in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s can change in response to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rganisms surv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r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s of organisms with individual differences (vari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occur in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selects” for or against certain vari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organisms surv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win’s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4038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831, Darwin was hired as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atura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erson who studies nature) aboard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MS Beag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oyage would last 5 years and travel around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each stop Darwin collected specimens of plants, animals, rocks and fossils. He also kept detailed observations about the specimens and the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win also studied 3 books – 1) written by his grandfather about differences in individuals, 2) Lyell’s book about geological events, 3) written by Malthus about human population outgrowing the environmen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688000" y="1600200"/>
          <a:ext cx="19591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8000" y="1600200"/>
                    <a:ext cx="19591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495680" y="1981080"/>
            <a:ext cx="46483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arwin returned to England he studied how farmers us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mprove livestock herds and crop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ook Darwin almost 30 years after his return to write his book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Origin of Species by Natural S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962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y which populations of organisms become better “fit” (suited to their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s that are “fit” live longer and produce more offspring (pass on their genetic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win used the term “adaptation” to describe any inherited characteristic that increases an organisms ability to surv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 Evidence in Support of Darwin’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5639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6:11:06Z</dcterms:created>
  <dc:creator>Preferred Customer</dc:creator>
  <dc:description/>
  <dc:language>en-US</dc:language>
  <cp:lastModifiedBy>Tricia</cp:lastModifiedBy>
  <dcterms:modified xsi:type="dcterms:W3CDTF">2007-03-28T13:31:31Z</dcterms:modified>
  <cp:revision>18</cp:revision>
  <dc:subject/>
  <dc:title>Chapters 13 &amp; 14</dc:title>
</cp:coreProperties>
</file>